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7A3-CB7D-49A4-B7FE-2DAD2BC6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ED9-A3C6-4E07-AFA4-B268DF5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246-AB60-4394-8518-1D11B908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18E-4E87-4F0B-9536-8F34201B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7395-3F45-443C-91FB-EC86D23F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E9D-740F-4D51-985A-EBE48672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AC3-054D-42E4-BD77-F4226E6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7DB-AE04-4462-8DE2-D72467D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3AEA-6D32-4C73-8814-4CB3DD1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A026-A5DD-4A3D-877D-3D80757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4ADF-5CDF-4A84-ABB4-E103865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9AE-D48C-4407-92DC-EF139A4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EBE-8984-49EF-B66C-EF6CC02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8C48-E23F-4737-B749-3FC7DD6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1D65-A726-4A6B-826B-6B9BADE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2833-76F5-450B-B8E8-EC65DF8A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ACF8-080D-4990-87E8-B318FDED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A1B-F695-4704-8E6A-1FEE8E4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6CA-F85B-456B-8DDA-15F9D5D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968-401B-45A0-8898-D91A38D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621-2D56-4E2B-897C-4E908A8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4B5-D60B-4458-AED4-4C5636C2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937-2E01-4A29-BB81-DA64838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2AF-1217-4288-B91B-92FF347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3D8-96B9-433A-847D-D8F3465E3C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533-971D-46B5-842A-C030560667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mpact"/>
              </a:rPr>
              <a:t>B</a:t>
            </a:r>
            <a:r>
              <a:rPr b="1" lang="ru-RU" sz="7200" spc="-1" strike="noStrike">
                <a:solidFill>
                  <a:srgbClr val="ffffff"/>
                </a:solidFill>
                <a:latin typeface="Impact"/>
              </a:rPr>
              <a:t>лияние алкоголя на организм челове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выделительной системы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8028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еме необычно боль­ших доз алкоголя, когда речь идет об алкогольном отравлении, послед­ствия более серьезные—может развиться некронефроз. Эта форма за­болевания бывает связана только с алкогольным эксцессом. Поражаются канальцы почек, клубочковый аппарат не изменяется. В эпителии канальцев происходят дистрофические изменения вплоть до развития некрозов, слущивание клеток эпителия в просвет канальц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ная болезнь может сопровождаться инфекцией мочевых путей и развитием пиелонефрита. Это поражение развивается в связи со снижением функции иммунной защиты под воздействием алког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системы крови</a:t>
            </a:r>
            <a:br>
              <a:rPr sz="48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79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изменении лейкоцитов было сказано в связи с алкогольным по­ражением иммунной системы. Другие клеточные элементы крови так­же меняются при хроническом употреблении алкоголя. При алкогольном макроцитозе  макроциты составляют большинство эритроцитов. При этом в мембранах таких эритроцитов обнаруживается повышенное содержание холесте­рина. Частота встречаемости этого феномена при злоупотреблении алкоголем составляет более 80%. Это явление и медленная (в течение 2—4 мес.) нормализация размеров эритроцитов после прекращения приема алкоголя позволяют отнести макроцитоз эритроцитов к маркерам алкогольной боле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нервной системы</a:t>
            </a:r>
            <a:br>
              <a:rPr sz="4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547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ная болезнь может проявляться множеством неврологиче­ских симптомов, в основе которых лежат описанные метаболические нарушения мозга, ведущие помимо прочего к дистрофии и некрозу нервных клеток: повышенная секреция жидкости под воздействием алкоголя сосудистыми сплетениями желудочков мозга и в результате увеличение внутричерепного д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72080" y="11970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коголизм занимает почетное место в середине континуума заболеваний, связанных с зависимостью от психоактивных веществ. Алкоголизм как болезнь - преимущественно следствие неадекватной по способу адаптации несовершенного человека к стрессогенным условиям жизни. Хроническое злоупотребление алкоголем может нанести серьезный ущерб системам гормональной регуляции состояния организма человека, причем последствия такого воздействия сохраняются в течение продолжительного времени после излечения от алкогол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69160" y="2060640"/>
            <a:ext cx="31748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ЙТЕ МОЛОКО))))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3970440" cy="397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50767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психологические причины пьянства вы знает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24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сихологические причины пьянств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15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изм – патологическое влечение к спиртному с последующей социально-нравственной деградацией личности. Пьянство – это неумеренное употребление алкоголя, которое наряду с угрозой здоровью личности нарушает ее социальную адап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01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35280" y="882720"/>
            <a:ext cx="6408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изм -  это поступательное заболевание, оно начинается с бытового пьянства и заканчивается на клинической койке. Для пьяницы со стажем доза спиртного увеличивается в 2- 3 раза по сравнению с прежней нормой. В организме человека происходят необратимые процессы, организму необходим спирт для обменных процессов. На последней стадии алкоголизма порог толерантности снижается, человеку достаточно выпить кружку пива для хм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2732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ак влияет алкоголь на различные органы и их системы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93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2" action="ppaction://hlinksldjump"/>
              </a:rPr>
              <a:t>Алкогольное поражение пищеваритель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3" action="ppaction://hlinksldjump"/>
              </a:rPr>
              <a:t>Алкогольное поражение сердечно-сосудист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4" action="ppaction://hlinksldjump"/>
              </a:rPr>
              <a:t>Алкогольное поражение системы иммунной защиты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5" action="ppaction://hlinksldjump"/>
              </a:rPr>
              <a:t>Алкогольное поражение органов дых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6" action="ppaction://hlinksldjump"/>
              </a:rPr>
              <a:t>Алкогольное поражение выделитель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7" action="ppaction://hlinksldjump"/>
              </a:rPr>
              <a:t>Алкогольное поражение системы кр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Tahoma"/>
                <a:hlinkClick r:id="rId8" action="ppaction://hlinksldjump"/>
              </a:rPr>
              <a:t>Алкогольное поражение нерв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когольное поражение пищеварительной систем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6156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ы пищеварительного тракта выполняют защитную функцию на пути проникновения алкоголя в организм и первыми испытывают его воздействие. Систематическое употребление более высоких доз алкоголя снижает секрецию в желудке как соляной  кислоты, так и пепсина. Защитный гель стенок желудка под воздействием этанола также претерпевает значительные измен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38720" y="1413000"/>
            <a:ext cx="30052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сердечно-сосудистой систем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е однократного введения алкоголя в средней дозе, если ему не предшествует хроническая алкогольная интоксикация, уже в течение первого часа проявляется прежде всего снижением нагрузки на левый желудочек, что связано с уменьшением периферического сопротивления. Если продолжать систематическое употребление алкоголя, то его токсическое воздействие на сердце ведет к прогрессивному нарастанию дистрофических изменений мышечных клеток, вплоть до появления в них микро- и даже макронекрозов. Вместе со значительным утолщением стенок мелких артерий и разрастанием в них и вокруг соединительной ткани происходит расширение сосудов и замедление тока крови, что приводит к застою и отеку. В дальнейшем отек переходит в склеро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системы иммунной защиты организма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1125360"/>
            <a:ext cx="8388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ом употреблении алкоголя наряду с другими страдает и иммунная система. При систематическом злоупотреблении спиртными напитками спустя довольно длительный срок наблюдается заметное снижение фагоцитоза, мобилизация фагоцитов остается сниженной. Лизоцим - белок, содержащийся во многих секретах человека: в слюне, слезах, тканях различных внутренних органов, скелетных мышцах и т. д. В условиях хронической интоксикации организма алкоголем уровень лизоцима понижается. Также наблюдается недостаток лимфоцитов. Следующей причиной лежащей в основе иммунных нарушений лежит снижение барьерной функции печени. Таким образом, систематическое употребление алкоголя ведет к снижению защиты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лкогольное поражение органов дыха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802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нения в системе дыхания связаны с двумя основными момен­тами. Первое — это способность легких выделять в неизмененном виде как сам этанол, так и его метаболит—ацетальдегид. Второе — это по­вышенная вероятность аспирации различных количеств пищи. Этанол и ацетальдегид, выделяясь в альвеолы, оказывают на клетки легочной ткани токсическое действие. В пораженной ткани наблюдаются гибель отдельных клеток. Повреждающее дей­ствие этанол и его метаболиты оказывают не только на альвеолу, но и на стенки воздухоносных путей - бронхи и трахею. Указанные изменения проявляются в нарушении функции дыхания, ко­торое составляют снижение жизненной емкости и максимальной вен­тиляции легких, уменьшение длительности задержки дыхания на вдо­хе и выдох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ьявол</cp:lastModifiedBy>
  <dcterms:modified xsi:type="dcterms:W3CDTF">2009-11-27T09:20:00Z</dcterms:modified>
  <cp:revision>2</cp:revision>
  <dc:subject/>
  <dc:title>PowerPoint Presentation</dc:title>
</cp:coreProperties>
</file>